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73F-FCE2-400F-B9DD-9B0E4514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884-9D8E-4623-B8B2-A260E33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6DC-2429-47FB-80D4-C18D8000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C6D-FFB8-4BEA-98A8-B39001D6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FB0-27A2-4066-A971-0DF209A7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F13-69FD-4557-AF2E-F41889CC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7C4-9D7F-4144-AA7A-04067E07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0A3-6584-4748-9FC1-F175B627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2F7-7C72-446E-AD3E-1290C432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42F-BAE9-4E6D-BB8F-0F8A29D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B2D-BF38-4DEF-9A0A-C00E274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7E5-23AF-4FE8-93BC-16A953D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B5CF-54D0-4D3B-860C-BC474DE56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590920"/>
            <a:ext cx="59436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2362320"/>
            <a:ext cx="739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ryone has an enforceable 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form his or her con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he law's requiremen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3880" y="274320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mean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dant inte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mmit the a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know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ce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ght and wro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nt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ac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he 3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criminal ac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67652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1 Du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2 Breach of Du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3 Criminal I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f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bb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bezzl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 Ac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143000" y="251460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rgl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 Tresp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28954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l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ea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 Eva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ju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251460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over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dulent S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olation of FDA La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752480" y="2362320"/>
            <a:ext cx="5410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um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ga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cen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stit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447920" y="2209680"/>
            <a:ext cx="6095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enc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28800" y="1066680"/>
            <a:ext cx="5334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aul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dna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1447920"/>
            <a:ext cx="7086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r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057400" y="2895480"/>
            <a:ext cx="4876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er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28800" y="1523880"/>
            <a:ext cx="55627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o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ly Condu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legal Spee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rimes again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1460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ubl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ace/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19320" y="1523880"/>
            <a:ext cx="6629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rime punishable by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nement for 1+ yea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,000 + f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th 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14600" y="2666880"/>
            <a:ext cx="3962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lo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9320" y="2057400"/>
            <a:ext cx="69339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ess serious crime punishable by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nement for up to a ye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es of $1,000 or l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43000" y="274320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demean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8080" y="1523880"/>
            <a:ext cx="7620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st form of a 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shable by fines on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no risk of jail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66680" y="2438280"/>
            <a:ext cx="7010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ra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523880" y="2209680"/>
            <a:ext cx="6172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other name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usiness crim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43000" y="1828800"/>
            <a:ext cx="6858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rimes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828800" y="220968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te-Col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6668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type of larc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a building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ered w/o permiss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38280" y="2666880"/>
            <a:ext cx="4038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rgl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14400" y="1828800"/>
            <a:ext cx="7620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 where a per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tains money by ly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a past/existing fac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438280" y="1981080"/>
            <a:ext cx="4038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ten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1676520"/>
            <a:ext cx="7620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rime where money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ered to influenc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ance of an official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438280" y="2438280"/>
            <a:ext cx="4038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ib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167652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taining $ or othr proper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a person by wrongful 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force, fear or power in offic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38280" y="2590920"/>
            <a:ext cx="4038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or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used voluntarily g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 their right to a publ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al to avoid the risk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eater penalty if convic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l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828800" y="2057400"/>
            <a:ext cx="5410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rga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90720" y="2743200"/>
            <a:ext cx="7467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penalty provided by law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sed by the cour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828800" y="2895480"/>
            <a:ext cx="5410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sh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828800" y="2286000"/>
            <a:ext cx="5410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erson ha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titutional right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828800" y="2438280"/>
            <a:ext cx="5410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1981080"/>
            <a:ext cx="75438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itness who refus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stify after being gran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munity faces a charg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mp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89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71600" y="2743200"/>
            <a:ext cx="6324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easonable g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belief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828800" y="228600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d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14400" y="228600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 based on proble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the way evidence was obtain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905120" y="251460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du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8080" y="1905120"/>
            <a:ext cx="7543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 where the use of fo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ears to be necessary to pre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rm or death to the victi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219320" y="2514600"/>
            <a:ext cx="6781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f-Def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8080" y="1981080"/>
            <a:ext cx="7696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edom from prosec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when one has commit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rime as charg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905120" y="251460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mun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1600200"/>
            <a:ext cx="7315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ists if a verifiable men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ition of the accused cau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ck of mental int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05120" y="2057400"/>
            <a:ext cx="5257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an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914400" y="1981080"/>
            <a:ext cx="7467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 used to desprov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ify or excuse the alleg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 against th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05120" y="251460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2362320"/>
            <a:ext cx="5257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en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057400" y="99072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3581280"/>
            <a:ext cx="784872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o convict a person of a crime, the evidenc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must establish their guilt with proof that i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_________________________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137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71600" y="2286000"/>
            <a:ext cx="67816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eyond a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sonable Doub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432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ement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riminal Ac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Cri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lassific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Crimes (2)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usines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lat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ri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rim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ced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924680" y="4572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fen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00200" y="2514600"/>
            <a:ext cx="6019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nishable off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gainst socie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udsd</cp:lastModifiedBy>
  <dcterms:modified xsi:type="dcterms:W3CDTF">2009-02-25T18:56:03Z</dcterms:modified>
  <cp:revision>49</cp:revision>
  <dc:subject/>
  <dc:title>No Slide Title</dc:title>
</cp:coreProperties>
</file>